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556-A70A-4572-A435-78275477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AB6-016C-489D-8D66-0784A9E2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4B3-0FB4-4916-BA19-62AAE72D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A93-75AB-4256-93A1-AE98E2C4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DB65-6BDB-42EC-A174-E82EA0AB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F14-F0AE-4F37-99D0-41C3137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B3E9-A90E-4206-ADAA-80EF4A9A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98B7-E56D-4785-B0C0-5BB60DEB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B235-7DDE-47AB-B2AA-797249EB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1C8C-1C3E-4001-9EE9-ECFB2D8B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13DB-800B-46B9-A73F-7978416E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0E6-F6F7-4818-8055-D9A54ED0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FB00-5152-4B76-8CCB-A46D060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C335-C8C2-4541-8CB0-742D6AD3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534-667A-46C2-A7FB-05954ECD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5CB-2E1A-4E28-BB9B-8924750B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4ED1-96D3-4B6A-8F48-99262A2A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DB32-E7EE-4915-A997-A0678130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6573B-E838-4452-99D1-1118EF54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2E02A-7531-466E-8EF5-C91B5D72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8062-BF64-44B4-948C-335B6C72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1B3A-6066-43AB-9AD3-300C2044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EC7-1ACB-4463-AB1B-4D51F2FD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9EBE6-8921-4632-A499-339EF08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B78B8-AB8C-43CD-A4A4-EC2CC770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57B1-A1F3-458E-B162-B527B2B2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17C00-38E4-4D42-9C8B-B0242AFB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A7C8F-8FE8-4916-94DF-333ACE84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0423-8BD7-48DA-AEAE-7551441C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18292-811D-4B8E-9967-1E3AF71D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5CA05-D723-4BA8-BCAA-F7AA3F75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6C543-A0FB-41FF-B34F-222CB87F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05677-585F-4AC7-8F19-60319D30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897B-081B-4EC6-8366-A411A77E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009B6-0ED4-454A-9BC6-E8E1555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5BFC-76D7-4515-ABC4-8F4216327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03FC2-7D2D-4560-B1E5-097B5A4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22BB-1797-4B9C-903F-386A7364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8FFB-CFB0-48F8-82AB-8A4EFE22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3632-CADD-44EB-A86B-46EA6406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58BA7-5FA8-4440-803E-A945D44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38CD-44D6-4113-A1E9-A8CC1575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BB7C6-F102-42D1-BE76-8540C012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45C2E-22E7-48DC-AA43-D1612395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85B3-9FE6-4E0C-9EE3-35E4196B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EBFBC-9AF7-4ABA-BC28-522ECE6F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8F16-DC62-4414-B422-68FE5B64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7355A-C7B9-496F-86C3-01F419C4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CD8B-E0E0-4079-AA80-D49DD5A1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4E37-FC00-4D5F-8401-C6536CD6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94E0-F16C-403C-9D34-26A1165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86AAC-9F9F-4B19-8FAE-7F66146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3F109-3251-4316-AF35-999BF784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41D53-88DE-460C-AA1A-CD82BDF6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5E36-C744-424A-A213-56A2BD34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879-1101-4DEB-BC96-D5837D43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786B1-4F96-4C93-B217-3BE51055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F5372-6C75-4672-9902-68D2542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FA2C2-E3E8-46DF-B7A8-1949F2C7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1550F-A0D9-4880-A43D-8E570922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3FBD4-A207-4953-92F6-5A86B8DC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B359-C904-40F7-9D93-C1E72A4B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B1EEB-2EF6-4F82-84EA-AEC9F204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FB649-1907-4EF6-94A1-EFD6A50D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EC59C-FC6D-48D2-A5EA-070B795B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3902E-378C-4D82-8EC0-E0991DE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F5F-4907-45BC-ACEF-8D572A4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00286-7204-4E59-8B3D-161A8C09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C781B-701A-4535-8CEA-14FA4BEE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99421-0A93-490E-A0E3-A49CA9FD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43F-B870-4EE7-A0F0-E44AD151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C8A-7686-4408-AD85-45FCDCA9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6F12-0900-470B-B9DA-4049EA34BBE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C0D-9EC6-4F2A-9DF6-8F2AAAFA57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E5DC-2B1A-48D9-A227-A57AF978CB1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6138-E469-4229-B030-270C0DBD85C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85B6-E282-4C29-A47E-067971BCECB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32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D406-16E6-4155-A063-1A92599D48D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47560" y="1676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572314"/>
                </a:solidFill>
                <a:latin typeface="Arial"/>
                <a:ea typeface="Arial"/>
              </a:rPr>
              <a:t>Тестови за процену аеробних и анаеробних способности, испитивање физичке кондиције</a:t>
            </a:r>
            <a:r>
              <a:rPr b="1" lang="en-US" sz="3200" spc="-1" strike="noStrike">
                <a:solidFill>
                  <a:srgbClr val="572314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4648320" y="603576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тедра за физиолог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ЖБА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3"/>
          <p:cNvSpPr/>
          <p:nvPr/>
        </p:nvSpPr>
        <p:spPr>
          <a:xfrm>
            <a:off x="83808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култет 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дицин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 нау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у Крагујевцу</a:t>
            </a:r>
            <a:br>
              <a:rPr sz="2800"/>
            </a:b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trcanje"/>
          <p:cNvPicPr/>
          <p:nvPr/>
        </p:nvPicPr>
        <p:blipFill>
          <a:blip r:embed="rId1"/>
          <a:stretch/>
        </p:blipFill>
        <p:spPr>
          <a:xfrm>
            <a:off x="2666880" y="31240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6212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трош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потрошња)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појам који се односи на запремину кисеоника која се унесе и потроши у миру или раду у току једног минут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трошак кисеоник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 мир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носи око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,2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0,3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m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им вредностима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/kg/m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а повећањем интензитета вежбања, утрошак кисеоника све више расте, до границе која се нази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и утрошак кисео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ада и поред повећања интензитета рада не долази до повећања утрошка кисеони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3920" indent="-243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572314"/>
                </a:solidFill>
                <a:latin typeface="Arial"/>
                <a:ea typeface="Arial"/>
              </a:rPr>
              <a:t>Тестови за процену аеробних способности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434960" y="685800"/>
            <a:ext cx="7499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аксимални утрошак кисеоник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VO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  <a:ea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ma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је основна мера аеробног капацитета. Изражава се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l/m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ђутим, како маса тела значајно утиче на вредност максималног утрош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ао поузданија мера се корис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елативни утрошак кисео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зражен као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l/min/k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израчунава се формул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и  утрошка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висе од степена утренираности испитаник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4" name="Picture 1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2743200" y="3276720"/>
            <a:ext cx="4248000" cy="1143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990360" y="304560"/>
            <a:ext cx="8001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и утрошак кисеоника представља меру аеробне моћи појединца, јер у том тренутку достигнута је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аксимална моћ синтезе АТ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-а из аеробних изв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; даље повећање интензитета захтева обезбеђивање енергије из анаеробних извора - анаеробне гликоли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ђути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томе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вара млечна кисел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мора, што води смањењу интензитета рада или прекиду рад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и утрошак кисеоника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тренира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оба може износит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mi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релативни максимални утрош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5 – 4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kg/m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нира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об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6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mi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релативни максимални утроша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70 – 9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/kg/m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21932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ко је рад умереног интензитета ниво млечне киселине у крви лагано расте, и тај интензитет рада при к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 млечне киселине у крви почиње да расте у односу на вредности у мировањ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назива с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еробни праг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(јавља се на ок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40 – 60% од VO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max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при концентрацији млечне киселине 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ближн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се интензитет вежбања повећа, толико да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 млечне киселине у крви значајно порасте (&gt;4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равнотежа између акумулације и елиминације више не постоји, и енергија се добија и 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робним путем, односно утрошак кисеоника не може да подмири укупне потребе за енергијом. Тај праг назива с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аеробни праг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 К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тренираних особ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јавља 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65 – 70% од VO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, ко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тист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на ок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80 – 90% од VO</a:t>
            </a:r>
            <a:r>
              <a:rPr b="1" lang="sr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max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(код добро утренираних спортиста дугопругаша на чак 95% од VO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max, уз концентрацију млечне киселин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3 –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572314"/>
                </a:solidFill>
                <a:latin typeface="Arial"/>
                <a:ea typeface="Arial"/>
              </a:rPr>
              <a:t>Тестови за процену анаеробних способности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Као мера анаеробних могућности дефинисан је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и кисеонички дуг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- представља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у количину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која се потроши у време опоравк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, изнад уобичајеног нивоа у мировању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У дијагностици анаеробног капацитета, карактеристично је стварање великог дуг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и високе концентрације млечне киселине у крви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Мерење анаеробног капацитета ограничено је методолошким и техничким могућностима. Лабораторијски тестови оптерећења најчешће се спроводе на бициклергометру.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2518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порављање аеробног система после вежбања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66680" y="9144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Ча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 раних фаза тешког вежбања, део способности за аеробни пут се смањује због два ефект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сеоничког дуг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ањења резерви гликогена у мишићим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ело нормално садржи око 2-2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L депонованог кисеоника (који може да се користи за аеробни метаболизам, иако се не удише нова количина кисео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 се налази у следећим депоим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L у ваздуху у плућим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L растворено у телесним течностим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L везан за хемоглобин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L депоновано у самим мишићним влакнима у миоглобину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9140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тешком физичком вежбању, сав депоновани кисеоник се користи у периоду од 1 минута за аеробни метаболизам. Када се физичко вежбање заврши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трошене залих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поно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исеони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ра да се допу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удисање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да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 количина кисеоник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 прелазе нормалне потреб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а би се обновили фосфагени систем и систем млечне киселине треба унети у организам око 9 L кисеоника више него у мировању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ав овај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дат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исеоник који мора да се “надокнади”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купно 1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L, зов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исеонички ду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тицај  врсте мишићних влакана на снагу и издржљивост током физичког напора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разлике између брзих и спорих мишићних влакана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а мишићна влакна имаjу око 2 пута већи дијaметар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зими који су одговорни за ослобађање енергије из фосфагеног и система гликоген-млечна киселина 2 до 3 пута су активнији код брзих мишићних влакана, што им даје већу максималну снагу мишићне контракције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а мишићна влакна су грађена за издржљивост, за стварање аеробне енергије, имају много више митохондрија, миоглобин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Број капилара око спорих мишићних влакана је већи него код брзи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066680" y="2282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влакна која с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бр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нтрахују (брза влакна) могу развити велику снагу у кратком временском периоду (за неколико секунди или минут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шићна влакна која с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контрахују (спора влакна) омогућују издржљивост током дужег временског периода, обезбеђујући продужену снагу контракције током више минута до сат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981080" y="3657600"/>
            <a:ext cx="556272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4"/>
          <p:cNvSpPr/>
          <p:nvPr/>
        </p:nvSpPr>
        <p:spPr>
          <a:xfrm>
            <a:off x="1523880" y="1447920"/>
            <a:ext cx="739152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представљају контролисане услове у којима се решавају задаци и добијају објективни показатељи о одређеним својствима и способност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 би одређени задаци имали особине теста, морају да буду математичко-статистички доказани да испуњавају одређене критеријуме. Ти критеријуми се називају метријске карактеристике тес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више тестова односи на исту област и ако су међусобно повезани, онда они чине батерију тест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1447920" y="380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физичке 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чка радна способност појединца представља резултат комбинације својстава 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ординисаног напора различитих функција (природна обдареност, психолошки фактори, фактори тренинга, као и фактори примене боље технике и опреме у раду) које детерминишу ниво тренутне и максималне могуће физичке радне способности појединца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зички радни капацитет одређен је процесима који дај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и чем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начајну улогу у допремању кисеони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битног у оксидацији хранљивих материја, играј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рдиоваскуларни и респирацијски систе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функције ових система утичу разни спољашњи  и унутрашњи фактори - године старости, пол, телесне димензије, здравствено стање, тренинг и друге адаптације организма, психолошки фактори, надморска висина, атмосферски притисак, температура, бука, загађеност атмосфере, зрачење..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514600" y="380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стове оптерећ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осим поделе на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аксималне и субмаксималн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рема интензитету рад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можемо поделити још и на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инуиране и дисконтинуиран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у односу на континуираност рад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степене и вишестепен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у односу на прогресију физичког напора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ректне и индиректне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директни тестов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у тестови код којих се испитанику зада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обим активност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а затим се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мери време за које га испитаник обав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Куперов тест 24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, или се мери пређено растојање за одређено време (Куперов тест 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, индиректни тестови могу бити максимални ако им се приступи са максималном мотивацијом. У индиректне тестове спадају и тестови субмаксималног оптерећења (Астрандов тест, тестови на степ клупици, УКК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ходања...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ректни тестов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у тестови у којима се испитанику зада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одговарајући интензитет рад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а затим се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мери време у којем је способан да тај интензитет рада одрж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примери – Конконијев, Шатл ран тест) - то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 максимални тестови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абораторијске и теренск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лабораторијски тестови су прецизнији, може се користити већи број анализа одједном, већи број компјутеризованих апарата, стандардизовани су услови тестирања и протокол, док су теренски тестови објективнији, специфичнији, примењивији у тренажном процесу, психички примамљивији и комфорнији за испитанике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572314"/>
                </a:solidFill>
                <a:latin typeface="Arial"/>
                <a:ea typeface="Arial"/>
              </a:rPr>
              <a:t>Апаратура потребна за дозирање оптерећења и праћење физиолошких функција током тестирања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2895480" cy="6397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Ергометри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43000" y="4647960"/>
            <a:ext cx="4952880" cy="56340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оптерећења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914040" y="1905120"/>
            <a:ext cx="4800600" cy="274320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emil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покретна трака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цикл - ергомета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кретне степенице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јак - ергомета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слачки ергомета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ивачки ергометар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360" y="5181480"/>
            <a:ext cx="3584520" cy="15242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rat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КГ апарат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lnSpc>
                <a:spcPct val="100000"/>
              </a:lnSpc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ирометри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6" name="Picture 6" descr="kajak_ergometar_v.jpg"/>
          <p:cNvPicPr/>
          <p:nvPr/>
        </p:nvPicPr>
        <p:blipFill>
          <a:blip r:embed="rId1"/>
          <a:stretch/>
        </p:blipFill>
        <p:spPr>
          <a:xfrm>
            <a:off x="5562720" y="1295280"/>
            <a:ext cx="3581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54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572314"/>
                </a:solidFill>
                <a:latin typeface="Arial"/>
                <a:ea typeface="Arial"/>
              </a:rPr>
              <a:t>Астрандов субмаксимални тест на бициклергометру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94920" y="12189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сали су га Астранд и Риминг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За извођење теста потребни су: бицикл – ергометар, штоперица, стетоскоп или пулсметар, портабл вага и номограм или табела по Астранду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Бицикла се во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обрта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/min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 оптерећење је подешено тако да пулс буде у опсег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120-170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је то ок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2W/kg TM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 тра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5-6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мину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у другој половини сваке минуте мери се пулс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реквенца срца ће постепено ра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1-3min)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чега се више неће повећавати и тада је постигнуто стабилно стање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steady state”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1"/>
          <p:cNvSpPr/>
          <p:nvPr/>
        </p:nvSpPr>
        <p:spPr>
          <a:xfrm>
            <a:off x="1295280" y="1522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gate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2" descr="123.jpg"/>
          <p:cNvPicPr/>
          <p:nvPr/>
        </p:nvPicPr>
        <p:blipFill>
          <a:blip r:embed="rId1"/>
          <a:stretch/>
        </p:blipFill>
        <p:spPr>
          <a:xfrm>
            <a:off x="5562720" y="1168560"/>
            <a:ext cx="3581280" cy="5460840"/>
          </a:xfrm>
          <a:prstGeom prst="rect">
            <a:avLst/>
          </a:prstGeom>
          <a:ln w="0">
            <a:noFill/>
          </a:ln>
        </p:spPr>
      </p:pic>
      <p:sp>
        <p:nvSpPr>
          <p:cNvPr id="331" name="TextBox 4"/>
          <p:cNvSpPr/>
          <p:nvPr/>
        </p:nvSpPr>
        <p:spPr>
          <a:xfrm>
            <a:off x="1066680" y="139212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је добио и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ngat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ституту из Израела у коме је на одељењу за спортску медицину он установљен и развиј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ма: бицикл – ергометар, електронски систем за дозирање оптерећења  и  регистровање броја окрета пед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1143000" y="914400"/>
            <a:ext cx="7620120" cy="51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Загревање организма – по тачно предвиђеном протоколу, у укупном трајању од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10 min,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након чега следи пауза о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5 m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о оптерећење организма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Првих неколико секунди се вози без оптерећењ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Вози се максималном могућом брзином током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30s.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За то време рачунар мери број окрета педала сваких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5s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или мањ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Оптерећење током теста дозира рачунар на основу више параметара (пол, узраст, тренутно физичко стањ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Искључивање оптерећења – аутоматско од стране рачунара или од стране испитивача, испитаник не сме одмах да прекине са окретањем педала да не би дошло до ортостатског колап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1828800" y="1522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gate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ст се састоји из три фаз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371240" y="762120"/>
            <a:ext cx="7162920" cy="5333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20e04"/>
                </a:solidFill>
                <a:latin typeface="Arial"/>
                <a:ea typeface="Arial"/>
              </a:rPr>
              <a:t>Када су у питању тестови оптерећења постоји више врста зависно да ли је испитаник у доброј физичкој кондицији, дакле утренирани спортиста</a:t>
            </a:r>
            <a:r>
              <a:rPr b="0" lang="en-US" sz="2800" spc="-1" strike="noStrike">
                <a:solidFill>
                  <a:srgbClr val="320e04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320e04"/>
                </a:solidFill>
                <a:latin typeface="Arial"/>
                <a:ea typeface="Arial"/>
              </a:rPr>
              <a:t> или су у питању лаки или тежи болесниц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20e04"/>
                </a:solidFill>
                <a:latin typeface="Arial"/>
                <a:ea typeface="Arial"/>
              </a:rPr>
              <a:t>Код здравих особа са добром физичком кондицијом треба применити тестове максималног интензитета као што је Харвард – степ тест</a:t>
            </a:r>
            <a:r>
              <a:rPr b="0" lang="en-US" sz="2800" spc="-1" strike="noStrike">
                <a:solidFill>
                  <a:srgbClr val="320e04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2016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572314"/>
                </a:solidFill>
                <a:latin typeface="Arial"/>
                <a:ea typeface="Arial"/>
              </a:rPr>
              <a:t>Харвард – степ тест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295280" y="7621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отребно: клупица висока 50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штоперица, калкулатор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спитаник  на дати знак почиње са пењањем на клупицу, у ритму 30 степова у минуту (бројање или метроном за темпо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Пење се онолико дуго колико може да издржи а најдуже 5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Када заврши са степовањем седа на столицу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тим му се у тачно одређеним интервалима мери пулс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1 – 1.5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2 – 2.5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, 3 – 3.5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min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Те три вредности (свака за интервал по 30 секунди) се зброје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201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572314"/>
                </a:solidFill>
                <a:latin typeface="Corbel"/>
              </a:rPr>
              <a:t>Бројање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95440" y="1218960"/>
            <a:ext cx="7648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декс = (Трајање вежбе у секундама * 100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/ (2 * ( сума три броја удара пулс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 30 секунди)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претација скора ( индекса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под 55 = слаба физичка кондиц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55 – 64 = низак просек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65 – 79 = висок просек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80 – 90 = добра физичка кондиц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 90 = одлична физичка кондиција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31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572314"/>
                </a:solidFill>
                <a:latin typeface="Arial"/>
                <a:ea typeface="Arial"/>
              </a:rPr>
              <a:t>Закључак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142640" y="10663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м региструјемо одређено стање испитаника и квантитативним вредновањем резултата у стању смо да га упоредимо са неким претходно утврђеним критеријум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зузетно важно је посматрање и бележење резултата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тати морају бити посматрани пажљиво, бележени брзо и тач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Понављањем тестирања у одређеним временским периодима могу се сагледати промене тренираних способности и ефеката тренинг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помаже у планирању и програмирању будућег рада и развоја појединц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говарајућа адаптација организма спортисте у процесу спортског тренинга оствариће се само ако одговарајуће генетски детерминисане морфолошке, моторичке и функционалне карактеристике појединца прати и одговарајући тренажни план и програм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тренажни проце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да би дао жељене резултате у свакој етапи његовог спровођења,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хтева прецизно дозирање, дистрибуцију и однос тренажног оптерећења и растерећења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би знали на којем нивоу тренираности се спортиста налази и којим и коликим стимулусима га можемо изложити, неопходно је да га с времена на врем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естирам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 проверимо ниво његове адаптације на тренинг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гностиком функционалних способности, помоћу интегративних кардиопулмоналних тестова оптерећења у прецизно контролисаним условима, могу се прецизно вредновати способности кардиоваскуларног и респирацијског система, и на основу добијених резултата оцењивати успешност претходног тренажног периода, и планирати даљи ток тренажног процеса.</a:t>
            </a:r>
            <a:r>
              <a:rPr b="0" lang="sr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1066680" y="152280"/>
            <a:ext cx="807732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ИЗВОРИ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ЕНЕРГИЈЕ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ЕНЕРГЕТСКУ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ПОТРОШЊУ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ХРОНОЛОШКИ</a:t>
            </a:r>
            <a:r>
              <a:rPr b="1" lang="sr-Latn-CS" sz="20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ФОСФАГЕНИ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реатин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фосф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ЗАЛИХЕ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УГЉЕНИХ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ХИДР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гликоген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гликогенолиз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глукоз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гликолиз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пирув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ацетил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оензим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ребсов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циклус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оксидативн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фосфорилација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ЗАЛИХЕ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МАСТИ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 MT"/>
              </a:rPr>
              <a:t>триглицериди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Gill Sans MT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липолиз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масне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иселине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бет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оксидациј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ацетил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оензим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ребсов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циклус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оксидативн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фосфори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4.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ЗАЛИХЕ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ПРОТЕИНА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аминокиселине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деаминациј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етокиселине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Кребсов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циклус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неопходно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присуство</a:t>
            </a:r>
            <a:r>
              <a:rPr b="1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кисеоник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оксидативна</a:t>
            </a:r>
            <a:r>
              <a:rPr b="0" lang="sr-Latn-CS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фосфорил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3"/>
          <p:cNvSpPr/>
          <p:nvPr/>
        </p:nvSpPr>
        <p:spPr>
          <a:xfrm>
            <a:off x="746280" y="266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990720" y="0"/>
            <a:ext cx="815328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а која се налази у мишићима, чак и код добро утренираних спортиста, довољна је за одржавање максималне снаге мишића само током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прин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сфагени систем (зајед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 фосфокреатин) могу омогућити максималну мишићну контракцију током 8–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једва довољно за 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прин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 оптималним условима, систем гликоген – млечна киселина може обезбедити енергију за 1.3 до 1.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максималног мишићног рада (уз додатних 8-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е обезбеђује фосфагени систе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WordArt 5"/>
          <p:cNvSpPr txBox="1"/>
          <p:nvPr/>
        </p:nvSpPr>
        <p:spPr>
          <a:xfrm>
            <a:off x="685800" y="3505320"/>
            <a:ext cx="25146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а енергетског становишта</a:t>
            </a:r>
            <a:endParaRPr b="1" lang="en-US" sz="1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јважнија је</a:t>
            </a:r>
            <a:endParaRPr b="1" lang="en-US" sz="16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РЗА ОБНОВА ATP-a</a:t>
            </a:r>
            <a:endParaRPr b="1" lang="en-US" sz="16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1" lang="en-US" sz="16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 ! !</a:t>
            </a:r>
            <a:endParaRPr b="1" lang="en-US" sz="16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6"/>
          <p:cNvSpPr txBox="1"/>
          <p:nvPr/>
        </p:nvSpPr>
        <p:spPr>
          <a:xfrm>
            <a:off x="6400800" y="3505320"/>
            <a:ext cx="25146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брзу обнову</a:t>
            </a:r>
            <a:endParaRPr b="0" lang="en-US" sz="16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P-a најважније су</a:t>
            </a:r>
            <a:endParaRPr b="0" lang="en-US" sz="16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ЗЕРВЕ  ГЛИКОГЕНА</a:t>
            </a:r>
            <a:endParaRPr b="0" lang="en-US" sz="1600" spc="1" strike="noStrike">
              <a:ln w="0">
                <a:noFill/>
              </a:ln>
              <a:blipFill rotWithShape="0">
                <a:blip r:embed="rId1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blipFill rotWithShape="0">
                  <a:blip r:embed="rId1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 ! ! </a:t>
            </a:r>
            <a:endParaRPr b="0" lang="en-US" sz="1600" spc="1" strike="noStrike">
              <a:ln w="0">
                <a:noFill/>
              </a:ln>
              <a:blipFill rotWithShape="0">
                <a:blip r:embed="rId1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1219320" y="533520"/>
          <a:ext cx="7086600" cy="6143400"/>
        </p:xfrm>
        <a:graphic>
          <a:graphicData uri="http://schemas.openxmlformats.org/drawingml/2006/table">
            <a:tbl>
              <a:tblPr/>
              <a:tblGrid>
                <a:gridCol w="3543120"/>
                <a:gridCol w="3543480"/>
              </a:tblGrid>
              <a:tr h="245160">
                <a:tc rowSpan="5"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сфагени систем (скоро у потпу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на 1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к у да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ање тег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ње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при игрању фудб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4"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сфагени систем и систем гликоген- млечна кис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на 2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ш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при одбрани у бејзб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у хокеју на ле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4"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тежно систем гликоген - млечна кис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на 4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ивање на 1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дб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8"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 гликоген - млечна киселина и аеробни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инт на 8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ивање на 2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изање на 15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ок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слање на 20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чање на 15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чање на 1 миљ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ивање на 4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rowSpan="4">
                  <a:txBody>
                    <a:bodyPr lIns="52920" rIns="529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еробни сис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изање на 100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ијашко трчање у прир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атон (42,2k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тивно трч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Rectangle 5"/>
          <p:cNvSpPr/>
          <p:nvPr/>
        </p:nvSpPr>
        <p:spPr>
          <a:xfrm>
            <a:off x="1428840" y="153360"/>
            <a:ext cx="72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бела 1- Енергетски системи који се користе у различитим спор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3"/>
          <p:cNvSpPr/>
          <p:nvPr/>
        </p:nvSpPr>
        <p:spPr>
          <a:xfrm>
            <a:off x="914400" y="152280"/>
            <a:ext cx="82296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ТСКО-МЕДИЦИНСКА ДИЈАГНОСТИКА ФИЗИЧКОГ РАДНОГ КАПАЦ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клиничкој и спортско-медицинској дијагностици користе се бројне методе и протоколи за мерење аеробног и анаеробног капацитета и радне способности поједина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метри који се најчешће користе у процен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еробног енергетског капацитет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а максимална потрошња кисеони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а максимална потрошња кисеони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V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ax/kg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оценат максималне потрошње кисеоник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(% VO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еробни праг (АП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нзитет рада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Watt, km/h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 процен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анаеробног капацитет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е најчешће кори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а млечне киселине у крви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исеонички д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он анаеробне зоне (способност издржавања у анаеробној зон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434960" y="533160"/>
            <a:ext cx="7499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стали физиолошки параметри који се користе у тренажном процесу и током дијагностичких поступака укључују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у вредност фреквенције срц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 фреквенције срца на нивоу анаеробног праг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у минутну вентилацију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нутну вентилацију на нивоу анаеробног прага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VE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и респирацијски коефицијент 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RQ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спирацијски коефицијент на нивоу анаеробног праг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RQ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аксимал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вредност фреквенције ср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HRmax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 израчунава по формули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Rmax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220 – број година старост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4"/>
          <p:cNvSpPr/>
          <p:nvPr/>
        </p:nvSpPr>
        <p:spPr>
          <a:xfrm>
            <a:off x="841320" y="-720"/>
            <a:ext cx="71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ОНЕ ТРЕНИНГА (ПРЕМА ВРЕДНОСТИ СРЧАНЕ ФРЕКВЕНЦ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32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990720" y="533520"/>
          <a:ext cx="8001000" cy="5891040"/>
        </p:xfrm>
        <a:graphic>
          <a:graphicData uri="http://schemas.openxmlformats.org/drawingml/2006/table">
            <a:tbl>
              <a:tblPr/>
              <a:tblGrid>
                <a:gridCol w="745920"/>
                <a:gridCol w="1303560"/>
                <a:gridCol w="1950840"/>
                <a:gridCol w="400068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R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ктеристи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ло лагана з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јмањи интензитет физ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 активности који мо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 унапредити кондиц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м углавном користи масти као енергиј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гана з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она здравља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не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обољ</a:t>
                      </a:r>
                      <a:r>
                        <a:rPr b="0" lang="sr-C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ава способност срца 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умпа к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дна за потро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њу енергије умереним в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њ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I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еробна зо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зона издржљив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јв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тензитет којим мо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е в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ти у ду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м временском периоду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појаве мл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киселине која изазива замо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а издр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ив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организам углавном користи угљене хидрате као енергију </a:t>
                      </a:r>
                      <a:r>
                        <a:rPr b="0" lang="sr-C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гликоген</a:t>
                      </a:r>
                      <a:r>
                        <a:rPr b="0" lang="sr-C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анаеробног праг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ње способности организма да метаболише млечну кисели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ифестације: умор и болови у мишићима, тешкоће при дисању и општи зам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ист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ње толеранције м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 на мле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 киселину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се тренира интензивније пре појаве бола у м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ћ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на субмаксималног и максималног интензите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sr-C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рвена зона</a:t>
                      </a: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елики дефицит кисео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звољен само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еома кратком пери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поручљива само код врхунских спорти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Rectangle 167"/>
          <p:cNvSpPr/>
          <p:nvPr/>
        </p:nvSpPr>
        <p:spPr>
          <a:xfrm>
            <a:off x="306360" y="6096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Vlada</dc:creator>
  <dc:description/>
  <dc:language>en-US</dc:language>
  <cp:lastModifiedBy>korisnik</cp:lastModifiedBy>
  <dcterms:modified xsi:type="dcterms:W3CDTF">2016-10-03T06:54:40Z</dcterms:modified>
  <cp:revision>309</cp:revision>
  <dc:subject/>
  <dc:title>Slide 1</dc:title>
</cp:coreProperties>
</file>